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F2A-ACDA-4254-9101-E0138E65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BB5-912E-47A8-8923-D6E67D4CE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0AD-AA5F-4032-A3DC-13BBA25F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0EE-4382-40B8-A4B8-42619895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57E-F784-4D13-8085-428FFD6A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405-2B3B-43AD-9C74-6E4685B7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281-A152-426E-844D-9034FB59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97B-686B-4E80-B9A1-4F49E3BE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73FF-652D-471C-840F-A1219BD2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820F-4C74-4540-A476-54AEA1C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6BB-9B11-44CB-B2B8-5D5F9C7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EB87-B111-4B0D-A8A5-53D0982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DCD9-1D1D-49B9-ABE4-B26D473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E5C-9332-4832-85F8-1D78C666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E2F-5ABE-41ED-AAEA-A33EBAC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DD2-BD7C-4DBC-97C9-56A17A8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625-5120-4987-8EE6-C6729C63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8691-8B6D-435D-904F-90598AD2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DE9E-9991-47ED-972A-AF6E28C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D625-B196-43A5-B217-2B5F596E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FFDC-9833-489E-B6E6-2C9F6E55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1452-05B0-43A3-AA81-3F36AD0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69BB-2891-4578-A151-47775554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699B-EACB-4A68-AC91-CB50C93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2C2-277D-401C-9E58-C36B5C2E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F886-330D-40FB-AE3E-FB0F5AC1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6860-2B91-4989-A913-A3D5835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939C-9F10-424C-8F72-BE897E47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BDDC-B888-4A45-8A11-DDA7409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7573-2845-400E-97AF-A8A34C5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3637-EB16-43F2-9925-0A456039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CC91-53EE-44DA-8138-918D9728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4BF7-7F7A-4104-B607-CCA42E91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7B50-14A8-493D-8BB7-167CCC8C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B02F-387D-405C-95B3-D1E716B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C2B-BE8E-4227-92D5-AC345A89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1522-A596-45BF-B1B2-E5A42783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2F17-0EA5-4726-8C56-F31E5D29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8881-E07B-4A94-8CF0-35640053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B5D6-3151-4CA4-A95F-2362543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9A22-6A90-4A9C-85FC-CF9A50B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A912-07CF-4779-8D15-1B5DDE8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A8B5-9AB9-4BAC-9B06-3C276A2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171B-DA86-4359-B81C-47113213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6AC9-AC61-4B36-8B3C-4F7D1A7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5FC9-2EFE-451E-A2C5-8B926B9B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81A-9478-4751-91A0-387EF78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3467-B1BF-41E9-8E5A-39A8B84A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6B29-E2D7-4C24-912A-97BFC36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6642-8707-4859-ABE3-EDE91E2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A2AE-AB6F-41EC-AC91-FFB408D5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D805-CAFD-4896-8E39-163EACD1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7C59-DFBC-45C1-ABD1-F17F313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F157-DEE8-4C99-AE85-7606B2B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DF0D-4D9E-4956-8A78-F2C7EA1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2079-B9C7-4541-8CF5-29FA530C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81D6-39E1-45A4-B9DA-9718D368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EF8-5AAD-4CC1-B458-C15A8DB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B6FB-AABD-4259-B3D8-DF229BAD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AEC7-D83F-4E58-8E4E-B51801FB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1336-2880-4607-B20A-D3BAF8FA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983B-3A7E-4B4E-AC37-D608EA31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8C96-2DC4-4731-98A4-B484FC7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44D9-3D1C-44E6-8281-05FABD9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E68D-C350-42D8-9E0E-0131AF1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FD28-329A-4F78-ACC3-51B5BBA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C84E-B5FB-460C-AACE-D47D777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9221-3A7F-432E-A80B-330EB92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191-1007-4B84-9ADE-83325A5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4E508-E5AD-439E-88D3-4AF97871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0C889-D92A-4B12-9BD6-C6466A05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5C88-B710-4629-BE58-A03B02E0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99E4-94A9-41F9-91A4-778C0182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4FB14-B964-41CA-878B-76359FC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4023B-66B9-4ABA-AAE3-4AB7DC5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7E2E0-C82B-4535-8E56-BF6D5482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AF67-D356-41FB-8E13-35333C2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65DE-AE45-4890-AFAB-0CA0393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ED9D-2B72-4855-98DD-716D66E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116-7853-4B35-AC03-85D0363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809D-479E-4F06-BD5B-691B464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4AB8A-F5DB-413C-BBE1-8931AC4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76329-6001-4543-87F4-B01E5E0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6F30-0321-41DE-88B9-FD287389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D33B-A161-4457-8371-0527662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E653-25B8-4B22-8B58-154FFB51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0C2F1-F76C-48C1-8365-A30BAFBF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9802-ED3E-4D6F-BBDE-644A8F42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8FAE7-E3E6-426E-8FF0-5C13054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E1C8F-6022-4EEE-A1AC-5BE9D9F6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4F3-CC15-47F8-92B1-9F8EC0E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915C-5E35-420A-92DA-A5B47F0E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18FBA-F125-4220-9317-2865F59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FA83-0D39-4DF6-9EE1-E7E4919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F268-21CC-4454-B62C-D28B711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B4E1-E15C-4A98-ABBA-A801868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426A7-22BB-42F4-A5DB-A333788E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4810-9E7C-493A-8BF1-BF62A0F1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6A4-FD0B-47A2-9CC4-EC46797388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AAAC-80A9-477A-82A3-813BA809FF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D8A-C211-4484-BAFC-F65D79A6AF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5E2-2FB2-4AE1-A2E4-F3E691344C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EC97-1DBB-4F8D-8882-A5A3188CE5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565-7225-4E3F-8CFF-578AAACFBA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67C-CCE0-4621-BC38-EE5C3B6991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625-5046-42F2-A6A3-DC1CC4559EB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V62zrm2P0" TargetMode="External"/><Relationship Id="rId2" Type="http://schemas.openxmlformats.org/officeDocument/2006/relationships/hyperlink" Target="http://www.youtube.com/watch?v=4jtmOZaIvS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43520" cy="2514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5867280" y="3524400"/>
            <a:ext cx="2495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ninterrupted addition of nucleotides on is called the leading strand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ere is strand on the opposite 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added in the 5’-&gt;3’ direction, which is the opposite direction of what is supposed to happ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this case, the primase has to move upstream and make another pri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 III then adds DNA nucleotides until it reaches the first pri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artial region is called an Okazaki fra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 I then replaces the RNA primer with DNA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dividual strands are linked by ligase (think of it as a gluing enzy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DNA Replication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7340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y errors are made, it is corrected by DNA pol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replication process takes places at the end of DNA, the primer will be removed, but not replaced when going from the 5’ -&gt; 3’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means the daughter strand is going to have a strand with a missing se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undreds of the hexanucleotide repeats will be slowly eaten up division after di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27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releasing their paper on the structure of DNA, they released a followup paper on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it, they stated that each chain of the DNA would serve as a template for copying, yielding two identical molecu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ir idea, each daughter stand would contain a chain of the origi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semiconservative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other models had to be ruled 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a conservative model, the new strand of DNA contains no chain from the pa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is, one is entirely new, other is entirely the origi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hird possibility is the dispersive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re, each strand contains part of the original and the copy on each ch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781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experiment at Cal Tech was performed to ensure the semiconservative model was corre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ulture of bacteria was grown in a medium containing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1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, then transferred into a medium containing only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1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mples of DNA were then extracted and centrifug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858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s at a sequence of nucleotides called origins of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gth and location va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attach to this sequence and open the DNA, forming a bub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ication proceeds in both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-shaped region at either end of bubble is called replication f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fork, helicase unwinds DNA by breaking the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head of the site, topoisomerase breaks and swivels strands, relieving str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strands are separated, single strand binding proteins (SSBPs) bind to regions of unpaired DNA, stabiliz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se enzyme moves in and base-pairs a short (5-10) nucleotide region of 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called the pri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ymerase III (DNA pol III) adds nucleotides to existing chain in the 5’-&gt;3’ direction (attaches new nucleotides to 3’ e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8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54:39Z</dcterms:created>
  <dc:creator>ED18</dc:creator>
  <dc:description/>
  <dc:language>en-US</dc:language>
  <cp:lastModifiedBy>ED18</cp:lastModifiedBy>
  <dcterms:modified xsi:type="dcterms:W3CDTF">2012-02-24T20:23:35Z</dcterms:modified>
  <cp:revision>24</cp:revision>
  <dc:subject/>
  <dc:title>DNA Replication</dc:title>
</cp:coreProperties>
</file>